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43D-CA33-4D26-B7C5-A9BA3B5C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EED-716C-448F-93D4-F976C4D1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24F-DE11-424B-9780-13484170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8AF-E79D-4364-89CD-1E5243FE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2D8-B96D-49B2-85F9-6BE8E89C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B44-061B-43B2-BE11-0E940D38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69C-6BA3-470E-921E-EA5A3731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AB8F-B22B-487E-8968-BDB5BA6B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243-7BA6-47D1-828F-05EC2521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955-45BB-4CBA-BDAC-753297AA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6A8-BC3A-4EB4-947F-5B3C6A17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6C0-9327-4E80-8BB5-9FE77ADD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0BF5-C5BD-45C6-A45F-2119692CB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00" y="83808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S A COLLE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080" y="4495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and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" y="3276720"/>
            <a:ext cx="5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ù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o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9568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3520"/>
            <a:ext cx="7696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i ? Quoi ? Où ? Quand ? 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533520"/>
            <a:ext cx="2133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bie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8380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205740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327672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44956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571500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8080" y="5715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0:06Z</dcterms:modified>
  <cp:revision>70</cp:revision>
  <dc:subject/>
  <dc:title>Contrôle interne des risques</dc:title>
</cp:coreProperties>
</file>